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A7E-8271-4673-9074-953BF843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5918-FCAF-4376-AAE8-632D0E8EB2E4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4556-986B-49D9-9639-FF8D33277E50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F58-FEE0-4882-A494-DE1BA601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C43-614F-41A7-84AC-0B69E9AB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84F-BF27-4B0C-AC55-33581518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A1B-0303-4D97-B466-6E54172D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C0BD-6E5E-41A0-9741-95DBEB25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4722-86F6-46CB-96F0-7F7F468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74C-6A8B-4686-B52A-0CCFE1A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8435-CF8D-4B9B-9E43-0363CFB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AEA1-A957-433D-8569-93C281DA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6E19-D84C-4B70-929D-9142E68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F7BB-6962-4C2D-82BD-7DDCE561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1E9-C2E3-448D-9179-01598BE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4FE0-21A1-4F59-98C6-F69669C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5956-8F88-4FC1-980B-C4B8E10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C58-5CDB-46AC-863F-8D2BBB5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014-76C6-47B5-89FB-BA973A70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DDB1-B0A3-4023-83DE-A298A317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33D-6FBA-4676-AFF6-8C3453CE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C35-F616-48CA-B33A-068A9A7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D67-64D8-4DF0-9E9F-0303635B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433-ECEE-4082-BE32-92D2B589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C07-43B9-4CC1-AA86-38820E0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CD1-2CFB-4384-998B-E95E737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B31-B3CB-45A2-A1BA-1584BA8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2b20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4AA7-7696-48B1-BEDE-EB82B1C82B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f2b2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f2b20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D896-9E3E-4209-A901-BB6AC0CE25AF}" type="slidenum">
              <a:rPr b="0" lang="en-US" sz="14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ae38"/>
                </a:solidFill>
                <a:latin typeface="Tahoma"/>
              </a:rPr>
              <a:t>Me llamo __________          Clase 7IL</a:t>
            </a:r>
            <a:br>
              <a:rPr sz="3600"/>
            </a:br>
            <a:r>
              <a:rPr b="0" lang="en-US" sz="3600" spc="-1" strike="noStrike">
                <a:solidFill>
                  <a:srgbClr val="b7ae38"/>
                </a:solidFill>
                <a:latin typeface="Tahoma"/>
              </a:rPr>
              <a:t>La fecha es el 13 de febrero del 2013</a:t>
            </a:r>
            <a:endParaRPr b="0" lang="en-US" sz="36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</a:rPr>
              <a:t>Propósito # 56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Conoces un país extranjero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Actividad Inicial:</a:t>
            </a:r>
            <a:r>
              <a:rPr b="0" lang="es-ES_tradnl" sz="2800" spc="-1" strike="noStrike">
                <a:solidFill>
                  <a:srgbClr val="d25814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In the following sentences, write the correct form 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Yo __________ Méxic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Tú __________ al nuevo alumn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Ella _________ muchos país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Nosotros ___________ a los profeso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¿Ustedes __________ Europa?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17" name="Picture 12" descr="bd05584_"/>
          <p:cNvPicPr/>
          <p:nvPr/>
        </p:nvPicPr>
        <p:blipFill>
          <a:blip r:embed="rId1"/>
          <a:stretch/>
        </p:blipFill>
        <p:spPr>
          <a:xfrm>
            <a:off x="7089840" y="342900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PE07015_"/>
          <p:cNvPicPr/>
          <p:nvPr/>
        </p:nvPicPr>
        <p:blipFill>
          <a:blip r:embed="rId2"/>
          <a:stretch/>
        </p:blipFill>
        <p:spPr>
          <a:xfrm>
            <a:off x="0" y="0"/>
            <a:ext cx="1300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0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1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2" name="Text Box 353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é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número de teléfono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sabe 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jugar al fútbol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3" name="Picture 4" descr="PE07015_"/>
          <p:cNvPicPr/>
          <p:nvPr/>
        </p:nvPicPr>
        <p:blipFill>
          <a:blip r:embed="rId1"/>
          <a:stretch/>
        </p:blipFill>
        <p:spPr>
          <a:xfrm>
            <a:off x="6400800" y="533520"/>
            <a:ext cx="163368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375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6" name="Freeform 4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05920" y="1752480"/>
            <a:ext cx="955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buClr>
                <a:srgbClr val="2f2b2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Y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zco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al Sr. Ruiz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ie...Paco 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conoce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 el parque 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2f2b20"/>
                </a:solidFill>
                <a:latin typeface="Tahoma"/>
              </a:rPr>
              <a:t>de diverciones.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28" name="Picture 4" descr="PE07015_"/>
          <p:cNvPicPr/>
          <p:nvPr/>
        </p:nvPicPr>
        <p:blipFill>
          <a:blip r:embed="rId1"/>
          <a:stretch/>
        </p:blipFill>
        <p:spPr>
          <a:xfrm>
            <a:off x="6705720" y="5335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55480" y="1447920"/>
            <a:ext cx="75978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I know how to play card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Paco knows the Fernandez family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a knows the address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rtina knows the city very well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y friends know how to ride a bike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 algn="ctr"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uisa knows the information.</a:t>
            </a: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231" name="Picture 7" descr="j0079190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pot the word that is NOT a form of saber or conocer: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ab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onozc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onocemos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9072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990720" y="3048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abo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4114800"/>
            <a:ext cx="8763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I know Spanish.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(include pronoun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80520" y="7632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at is a good way to remember when to use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SABER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. used for knowing plac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b. used for knowing people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. used for things that can be learned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d.used for knowing languages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V-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I know her well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La conozco bien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La sé bien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V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we know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Laura”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en you are talking about being familiar with her?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C:\Documents and Settings\Meli\Local Settings\Temporary Internet Files\Content.IE5\EAOZIRK7\MCj04326170000[1].png"/>
          <p:cNvPicPr/>
          <p:nvPr/>
        </p:nvPicPr>
        <p:blipFill>
          <a:blip r:embed="rId1"/>
          <a:srcRect l="0" t="0" r="16677" b="0"/>
          <a:stretch/>
        </p:blipFill>
        <p:spPr>
          <a:xfrm>
            <a:off x="7620120" y="5029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a5"/>
              </a:gs>
              <a:gs pos="100000">
                <a:srgbClr val="ffffe5"/>
              </a:gs>
            </a:gsLst>
            <a:lin ang="16200000"/>
          </a:gradFill>
          <a:ln w="9360">
            <a:solidFill>
              <a:srgbClr val="d0c96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ráctica:</a:t>
            </a:r>
            <a:endParaRPr b="0" lang="en-US" sz="4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2f2b20"/>
                </a:solidFill>
                <a:latin typeface="Tahoma"/>
              </a:rPr>
              <a:t>Yo ____________a Juan. Somos muy amigos.</a:t>
            </a:r>
            <a:br>
              <a:rPr sz="2600"/>
            </a:br>
            <a:r>
              <a:rPr b="0" i="1" lang="es-ES" sz="2600" spc="-1" strike="noStrike">
                <a:solidFill>
                  <a:srgbClr val="2f2b20"/>
                </a:solidFill>
                <a:latin typeface="Tahoma"/>
              </a:rPr>
              <a:t>I know Juan. We're good friends</a:t>
            </a:r>
            <a:r>
              <a:rPr b="0" lang="es-ES" sz="2600" spc="-1" strike="noStrike">
                <a:solidFill>
                  <a:srgbClr val="2f2b2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Busco el libro. ¿_________ usted dónde está?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I'm looking for the book. Do you know where it is?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Tengo que llamar a María. ¿__________ (tú) su número de teléfono?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I have to call Maria. Do you know her phone number?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Pablo es niño. No ____________conducir.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Pablo is a child. He doesn't know how to drive.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Tahoma"/>
              </a:rPr>
              <a:t>¿Quiere hablar bien el español? Es necesario ___________ los verbos irregulares.</a:t>
            </a:r>
            <a:br>
              <a:rPr sz="2600"/>
            </a:br>
            <a:r>
              <a:rPr b="0" i="1" lang="en-US" sz="2600" spc="-1" strike="noStrike">
                <a:solidFill>
                  <a:srgbClr val="2f2b20"/>
                </a:solidFill>
                <a:latin typeface="Tahoma"/>
              </a:rPr>
              <a:t>Do you want to speak Spanish well? You must know (by heart) the irregular verbs. (hint: use the infinitive</a:t>
            </a:r>
            <a:r>
              <a:rPr b="0" lang="en-US" sz="2600" spc="-1" strike="noStrike">
                <a:solidFill>
                  <a:srgbClr val="2f2b2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áctica :</a:t>
            </a:r>
            <a:br>
              <a:rPr sz="4400"/>
            </a:br>
            <a:r>
              <a:rPr b="0" i="1" lang="en-US" sz="2800" spc="-1" strike="noStrike">
                <a:solidFill>
                  <a:srgbClr val="2f2b20"/>
                </a:solidFill>
                <a:latin typeface="Tahoma"/>
              </a:rPr>
              <a:t>¿Saber o conocer?</a:t>
            </a:r>
            <a:br>
              <a:rPr sz="2800"/>
            </a:b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Fill in the blanks with the correct form of “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ab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” or “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.”  Include the “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 personal” if needed.</a:t>
            </a:r>
            <a:endParaRPr b="0" lang="en-US" sz="2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22096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pintar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Elena no ____________ Miguel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Luisa y yo ____________ que es miércol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Tú ______________ dónde está la cafeterí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la ciudad de Buenos Air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Federico y Jos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  <a:ea typeface="Tahoma"/>
              </a:rPr>
              <a:t>é</a:t>
            </a: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 ___________ hablar español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Nosotros ___________ el Parque Central muy bien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Enrique ____________ la nueva profesora de histori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56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ompleta la hoja distribuida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Helen Zumaeta</cp:lastModifiedBy>
  <dcterms:modified xsi:type="dcterms:W3CDTF">2013-02-11T22:43:29Z</dcterms:modified>
  <cp:revision>36</cp:revision>
  <dc:subject/>
  <dc:title>PowerPoint Presentation</dc:title>
</cp:coreProperties>
</file>